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E5158E-9798-48BC-B994-371DBC9B3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85F46F-329A-46C9-AE27-49E7588DD2F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DB88F6-A907-432F-8700-E499ECCF60A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9EBC52-6165-43DB-A21C-0B3566FFBD1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443BB9-24BA-4762-803B-A6054D093CF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8A795A-3E42-45C5-86C8-A5A6485CD20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525-D590-404C-A5BB-AB4387C9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2BB-AD24-42F4-ABED-1F538B65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E657-694E-4EDE-90CF-313B80BE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2AD-5E84-46F0-89E0-1E183C25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8FFD-8697-43DD-B9F0-D82B6E1F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C0AB-1D67-4289-B90B-947639B8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8C8A-E429-4DBD-864B-9446CAB0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3C94-6367-451F-B514-03616A7E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29DF-33E2-42D8-931A-E77F65B4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01EE-DFD2-4B6A-AC2C-A16BFAE3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D5D2-7C0E-4450-B99B-BED529C5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0E8-45A6-4881-A95E-FF69060F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4BE-93DA-4F6F-BC1E-863D906C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7AF3-7D78-4660-8480-D25708ED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8EED-D27B-45A6-9D6C-C6DB3EF7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BA9E-B3B1-4EDB-A663-7C933C5C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BD3A-9F66-42B6-8D9C-486163C5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5A145-06C4-4449-9455-1598253C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CD72-050C-49E7-B27F-856D8CD3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FC96-1F71-4CD7-9863-E3464341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018C-06BE-482F-9D8F-C6451CB9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37939-6020-4BA2-B44A-8BB51D51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483-F6A7-4E51-854A-9D1CC094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98A3C-151C-4905-87E8-30A09902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D276-251E-4A60-A9EE-6A9A054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9FD2C-4E33-4F42-AAFC-79DB360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F596-F8E3-4417-8619-387DDAF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F49A7-0E5A-4D5C-B542-9CE234D3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63433-92C8-445C-8C80-EDB77FE6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6531-C285-482C-9AA8-4F3C8D74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9DC-8779-44B9-8108-6C793B6C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8D7-0BB3-4819-A54C-AA2EA0DE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B82-5985-4F7B-913C-B55C02D7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CB9-F65B-4DE1-8983-AEC8B32E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444-CA81-401E-B9F0-21106356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F0A-3407-4ED9-B724-188D7001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5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6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400560" y="61009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82956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33BB9814-E7B9-4A44-A661-4BC495321F4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49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5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1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1C163DC2-C161-4273-B1CD-124223C23145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5050"/>
              </a:buClr>
              <a:buSzPct val="90000"/>
              <a:buFont typeface="Monotype Sorts" charset="2"/>
              <a:buChar char="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ff505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85C527E5-DFFB-4D90-84F9-5B615B82AFAC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0ns20@yahoo.com" TargetMode="External"/><Relationship Id="rId2" Type="http://schemas.openxmlformats.org/officeDocument/2006/relationships/hyperlink" Target="mailto:Mdamavandi@Srttu.Edu.ir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l_fi" descr="http://ketabak.org/tarvij/sites/default/files/imagecache/nc_image/tarvij/article/201112/making-list-0808-lg-504185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itle 1"/>
          <p:cNvSpPr/>
          <p:nvPr/>
        </p:nvSpPr>
        <p:spPr>
          <a:xfrm rot="20127600">
            <a:off x="1520640" y="2415960"/>
            <a:ext cx="228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  <a:cs typeface="B Mitra"/>
              </a:rPr>
              <a:t>به نام خدا</a:t>
            </a: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 rot="19945200">
            <a:off x="2325600" y="2568600"/>
            <a:ext cx="4971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    کارگاه روش شناسی تحقی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دانشگاه فرهنگی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همایش پوی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93/11/11</a:t>
            </a: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5000760" y="62064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ویژ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1115640" y="138060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ل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ب انجام پژوهشهای بسیار و پیشبردعلم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پدیده ها باروشی ساده و مستقیم تبیین میشوند. نظریه های ساده تر اولویت دار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جامع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در دوره های زمانی مختلف ، مناطق جغرافیایی متفاوت ، بافت های اجتماع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و فرهنگی گوناگون توان تبیین دار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واضح وصریح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فاهیم آن می تواند به صورت عملی تعریف شود ، قابل اندازه گیری است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اریف ناقص و مبهم در آن نی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هماهنگ (درونی و بیرون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 سازکاری با دانش پیشین و واقعیت های مشاهده شده (بیرونی)و عدم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ناقض بین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بخش های مختلف آن ( هماهنگی درون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2123640" y="78588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 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کارکر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1071360" y="142884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انایی توصیف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یین عوامل و متغیر ها درونی پدیده یا رویداد و نوع و نحوه ارتباط آ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قدرت تبیی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ضیح نحوه و سازوکار(مکانیسم) عملکرد و تعامل و تاثیر و تاثر پدید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مکان پیش بین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یجاد امکان پیش بینی رخدادها و عملک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1071360" y="1714320"/>
            <a:ext cx="7500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د نظریه ( تئوری ) شناخته شده را نام ببرید و فراز های مهم آن را توضیح دهی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220000" y="2568240"/>
            <a:ext cx="242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نیوتو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فیزیک)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2051640" y="4005000"/>
            <a:ext cx="287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رفتارگرایی</a:t>
            </a:r>
            <a:r>
              <a:rPr b="1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3060000" y="3501000"/>
            <a:ext cx="2654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فروید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4298760" y="2997000"/>
            <a:ext cx="243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داروی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زیست 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224000" y="4437000"/>
            <a:ext cx="7500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آیا شما هم نظریه ای شخصی دارید؟ </a:t>
            </a:r>
            <a:r>
              <a:rPr b="1" lang="en-US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(نظریه شما چه چیز را توصیف و پیش بینی میکند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170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فرضیه و نحوه تدوین آن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س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071360" y="187452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دس ، پیشنهاد یا پیش بینی ( خردمندانه ای ) در باره چگونگی رابطه چند متغیر یا پاسخ یا راه حل معقولانه ای برای مساله پژوهش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(ادعایی مبنی بر وجود رابطه ، تاثیر یا تفاوت دو یا چند متغی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333333"/>
                </a:solidFill>
                <a:latin typeface="Times New Roman"/>
                <a:cs typeface="B Mitra"/>
              </a:rPr>
              <a:t>طرح فرضیه راهکاری است برای هدایت روند پژوهش ( فرضیه ابزار تئوری است ) و چارچوبی را برای تنظیم و ارایه گزارش تحقیق فراهم می آو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56844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c00000"/>
                </a:solidFill>
                <a:latin typeface="Times New Roman"/>
                <a:cs typeface="B Mitra"/>
              </a:rPr>
              <a:t>فرضیه ابطال یا اثبات نمی شوند بلکه تنها در حوزه محدودی به طور موقت         تایید یا رد می گردد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2857320" y="78588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و سوال پژوهش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1071360" y="185724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مبنایی منطقی دار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لازم است که فرضیه با ارایه مبانی نظری یا داده ها و شواهد تجربی تبیین شود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برای طرح آن دلایل روشن و قابل ارایه ای وجود دارد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نظری ؛ از متن نظریه های مربوط به موضوع برآمده و با آنها سازگار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تجربی ؛ از بطن مشاهده های عینی یا پزوهش های پیشین برآمد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انچه مبانی منطقی لازم برای طرح فرضیه جود نداشته باشد به طرح                 سوال پژوهشی بسنده می شود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le 1"/>
          <p:cNvSpPr/>
          <p:nvPr/>
        </p:nvSpPr>
        <p:spPr>
          <a:xfrm>
            <a:off x="3857760" y="714240"/>
            <a:ext cx="45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</a:t>
            </a:r>
            <a:r>
              <a:rPr b="1" lang="en-US" sz="4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1071360" y="2071800"/>
            <a:ext cx="75006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همواره به صورت جمله خبری بیان می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( اندازه گیری ، مشاهده ) متغیر ها و روابط آنها ممکن باشد 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، تاثیر یا تفاوت متغیر ( دو یا چند متغیر ) با هم یا برهم اشار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صورت عبارتی رسا و روشن که نیاز به تفسیر و ترجمه ندارد ،  نگاشته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دقیق ،روشن و تا حد امکان  ساده( بدون آرایه های نگارشی) ومختصر نوشته شو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d4d73"/>
                </a:solidFill>
                <a:latin typeface="Times New Roman"/>
              </a:rPr>
              <a:t>(امور بدیهی و مسایلی که محل منازعه و بحث نیستند را به عنوان فرضیه ارایه نکنیم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1"/>
          <p:cNvSpPr/>
          <p:nvPr/>
        </p:nvSpPr>
        <p:spPr>
          <a:xfrm>
            <a:off x="5357880" y="78588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899640" y="1556640"/>
            <a:ext cx="76010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کنید کدامیک از عبارت های زیر فرضیه مناسبی است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تغییر برنامه کاروزی دانشجو معلمان اقدام مناسبی است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هارت ورفتار های اجتماعی دختران و پسران متفاوت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ومی بودن یا غیر بومی بودن معلمان با عملکرد حرفه ای آنان ارتباطی ن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ره وری آموزشی با پیچیدگی عوامل وتاثیر و تاثرات آ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فزایش برنامه های تفریحی سبب بهبود یاد گیری می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داد و حجم درس های تربیتی با میزان کارایی معلما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شما چندفرضیه ارایه کن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2709000"/>
            <a:ext cx="66434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طالعه پیشینه موضوع و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یادداشت برداری 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چهار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1857240" y="785880"/>
            <a:ext cx="628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ضرو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تحدید موض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جتناب از دوباره کاری و معطوف شدن به مسایل ن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رتقا روش شناختی ، بهره گیری از روش های کار آمد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یابی به بینشی در باره موضوع و حدود آن و ارزیابی فرضیه و سوال های پژوه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640" y="2800800"/>
            <a:ext cx="66434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ساله و موضوع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2786040" y="785880"/>
            <a:ext cx="5357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هدف</a:t>
            </a:r>
            <a:r>
              <a:rPr b="1" lang="en-US" sz="36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مبانی نظر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عرفی و توضیح نظریه ها ، رویکردها ، دیدگاهها معتبر در حوزه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بازنمایی مفاهی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پرداخت مفاهیم و واژگان کلیدی و کلیه نکات مربوط به آن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تحقیقات انجام ش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وارسی نتایج به دست از بررسی موضوع در پژوهش های انجام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ازبینی روش ها ، جامعه آماری ، نمونه و دیگر فراز های روش شناخت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1500120" y="178596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باید یادداشت کنیم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 یادداشت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ر یادداشت کردن نظم معینی را دنبال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تا چه اندازه منظم و مرتب ا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اشت های شما قابل ارایه به دیگران ه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به کارتان آمده یا میا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کردن به یادگیری ( یادسپاری و یاد آوری ) شما کمک می کن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چند پرس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2428920" y="785880"/>
            <a:ext cx="38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چرا باید یادداشت کنیم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ان مسال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928880" y="2214720"/>
            <a:ext cx="564336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بسیاری را از دست می ده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ما سازمان و طبقه بندی مناسبی نمی یاب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آموخته ها ، اطلاعات و داده ها دشوار اس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ون مرجع ، منبع ، تاریخ اطلاعات بی هویت ا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اتفاقی کسب میشوند و تصادفی در ذهن می مان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گه یادداشت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1643040" y="2214720"/>
            <a:ext cx="63576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فیش یا برگه های یادداشت ، برگه هایی اند با شکل و اندازه واحد برای ثبت اطلاعات دریافتی ، چکیده مطالعات و .... با نظم و اصول تعریف شد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ی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643040" y="2214720"/>
            <a:ext cx="63576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کیفیت و جنس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ا قابلیت نگهداری و یا انتقال و جابجای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اندازه و ابعاد 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سته به موضوع و کاربرده های آن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نام نویسنده ، سال انتشار ، ، مترجم ، ناشر 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تاریخ یادداشت برداری ، نام یادداشت کنند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</a:t>
            </a:r>
            <a:r>
              <a:rPr b="1" lang="fa-IR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1000080" y="2000160"/>
            <a:ext cx="73576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 منبع ؛  نام نویسنده ، سال انتشار ، ، مترجم ، ناشر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اصلی ، موضوع فرع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اریخ یادداشت برداری ، نام یادداشت کننده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ع و نحوه یادداشت برداری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5072040" y="714240"/>
            <a:ext cx="350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برگه یادداش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1643040" y="2214720"/>
            <a:ext cx="63576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عدد یا ترکیبی از عدد و حروف برای تعیی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ره ردی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یا نوع مطل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1"/>
          <p:cNvSpPr/>
          <p:nvPr/>
        </p:nvSpPr>
        <p:spPr>
          <a:xfrm>
            <a:off x="350028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حوه یادداشت بردار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1643040" y="2214720"/>
            <a:ext cx="63576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قل قول مستقیم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علمی ، داده ها و ...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لخیص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مفصل و طولانی ، داستان ها ، مطالب فلسفی و 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ضمون نویس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مطالب پیچیده ، مفصل یا غیر قابل نقل و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اشیه نویسی (مطالب شخصی ، نظرات شخصی و ......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یه های شخص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1643040" y="2214720"/>
            <a:ext cx="6357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رنگ ثابت برای منظور خا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ابعاد مختلف برای موضو ع ها مختل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شتن یک سوال برای هر یک فیش ( که مطلب فیش پاسخ آن باشد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نویسی و کد گذاری هر برگه بر اساس طبقه بندی شخص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le 1"/>
          <p:cNvSpPr/>
          <p:nvPr/>
        </p:nvSpPr>
        <p:spPr>
          <a:xfrm>
            <a:off x="300024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مایه ساز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3214800" y="2214720"/>
            <a:ext cx="4428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بندی مطالب و فیش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شناسه برای هر طبق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هیه فهرست برگه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3643200" y="500040"/>
            <a:ext cx="5143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ساله تحقیق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9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قق فردی است که دچار مساله شده است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214280" y="1928880"/>
            <a:ext cx="72864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هر پژوهشی با مساله آغاز می شود ، احساس وجود یک مشکل یا درک یک مساله نخستین مرحله اقدامی پژوهشی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، ماهیت و کیفیت مساله تعیین کننده اهمیت و کیفیت مساله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ش از هر چیز باید به شناخت و تبیین مساله ، ابعاد آن ، بیان روشن و واضح و تبیین ضرورت آهمیت آن پرداخ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2325960" y="1772640"/>
            <a:ext cx="49716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درس دانشگاه تربیت دبیر شهید رجای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_PDMS_Saleem_QuranFont"/>
              </a:rPr>
              <a:t>	</a:t>
            </a:r>
            <a:r>
              <a:rPr b="1" lang="en-US" sz="2800" spc="-1" strike="noStrike" u="sng">
                <a:solidFill>
                  <a:srgbClr val="1a3366"/>
                </a:solidFill>
                <a:uFillTx/>
                <a:latin typeface="Times New Roman"/>
                <a:hlinkClick r:id="rId1"/>
              </a:rPr>
              <a:t>0ns20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  <a:hlinkClick r:id="rId2"/>
              </a:rPr>
              <a:t>Mdamavandi@Srttu.Edu.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tle 1"/>
          <p:cNvSpPr/>
          <p:nvPr/>
        </p:nvSpPr>
        <p:spPr>
          <a:xfrm>
            <a:off x="4071960" y="785880"/>
            <a:ext cx="45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نشا مساله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143000" y="1714320"/>
            <a:ext cx="72864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عینی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جربه های واقعی از زندگی در محیط ،  مواجهها با پدیده ها ، رخداد ها ، روندها پیوسته ما را با مسایلی روبرو می کنند که ابهام زا بوده و نیاز به پاسخ دارن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ذهن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منابع ، آثار و پژوهش های دیگران الهام بخش بوده و منشا شکل گیری مساله است . به صورت تمایل به تکرار یک پژوهش در جامعه ای دیگر و ...... بروز ک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طابق نظریه ها با واقعیت ، نقصان های درونی نظریه ها ، تعارض آنها با نظریه های دیگر موجد مساله ا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فکر و تخیل خلا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یده پردازی ، تمایل به پیشرفت ، عبور از مرزهای موجود ، کشف حوزه های نو ، خلق چیزهای تازه می تواند منشا بروز مساله های جدید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عی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857160" y="1714320"/>
            <a:ext cx="7714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بیانی است کوتاه،رسا و کاملی  از مساله تحقیق به نحوی که امکان بررسی و پژوهیدن آنرا عملی جلوه می دهد .  ضوابطی برای یک موضوع خوب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رد علاقه باشد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غدغه و مشغولیت ذهنی پژوهشگر با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یع و نو باشد .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کراری نباشد ، چیزی به ما ( به دانش یا توانایی ما ) بیافزا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عملی و ممکن باشد 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منابع اطلاعاتی ، مالی و امکاناتی آن میسر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داشته باشد.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تواند به نیازی واقعی پاسخ گوید یا به دانشی نو بیانجام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857160" y="1714320"/>
            <a:ext cx="778644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وضوح و روشنی :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شن و بدون ابهام بوده و نیاز به توضیح ن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رابطه چند متغیر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دو یا چند </a:t>
            </a:r>
            <a:r>
              <a:rPr b="1" lang="fa-IR" sz="1800" spc="-1" strike="noStrike">
                <a:solidFill>
                  <a:srgbClr val="ff0000"/>
                </a:solidFill>
                <a:latin typeface="Times New Roman"/>
                <a:cs typeface="B Mitra"/>
              </a:rPr>
              <a:t>متغیر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شاره 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دودیت            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دامنه محدودی داشته باشد ، به محدوده ، زمان و مسایل مشخصی معطوف باش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le 1"/>
          <p:cNvSpPr/>
          <p:nvPr/>
        </p:nvSpPr>
        <p:spPr>
          <a:xfrm>
            <a:off x="1571760" y="785880"/>
            <a:ext cx="692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  </a:t>
            </a:r>
            <a:r>
              <a:rPr b="1" lang="fa-IR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موضوع های مناسب و نا مناسب را تعیین کنی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1571760" y="1785960"/>
            <a:ext cx="707184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وامل موفقیت دانشجویان و نخبگان علمی و تحصیل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روند تغییرات در برنامه های آموزش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لل بی انگیزه گی دانشجوی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رابطه ویژگی های مدیران و رضایت شغلی کارکن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آموزش های ضمن خدم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ارزشیابی توصیفی بر عملکرد  شاگردان کلاس س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24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روری بر نقش نظریه و فرضیه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در پژوهش علمی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د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1785960" y="185724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‌ای از سازه‌ها ( مفاهیم ) تعاریف و گزاره‌های به هم مرتبط است که از طریق مشخص ساختن روابط بین متغیرها، با هدف تبیین و پیش بینی پدیده‌ها دید نظام یافته‌ای از پدیده‌ها ارائه می‌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 ای از تعریف ها و توضیحات در باره روابط تعدادی از متغیرها ، برای توصیف و توضیح وتبیین منظم پدیده ها و رویداد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دانش استدلالی انتزاعی است که ما از آن برای تبیین پدیده ها ودرک آنها استفاده می کنیم ( ترین،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07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  <Words>1211</Words>
  <Paragraphs>262</Paragraphs>
  <Company>Niayesh Lab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20:04:43Z</dcterms:created>
  <dc:creator>Majid</dc:creator>
  <dc:description/>
  <dc:language>en-US</dc:language>
  <cp:lastModifiedBy>RAYAN</cp:lastModifiedBy>
  <dcterms:modified xsi:type="dcterms:W3CDTF">2015-01-20T20:07:07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