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6A789A-5174-4E6C-AFF4-DC6AD0336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9E18AC-198D-4F5A-B9C3-7654278649F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F3860A-0844-4DAC-A9F8-014589DAE14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6D75A8-590E-4913-BAB2-CCA23BD0644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04362F-2D22-4E34-AF55-A515836267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DEECEA-3E5D-4CD3-B79F-8FF4F42375B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63B-F39B-4A81-A9AD-7E3DD9D4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D2C-658E-4159-9022-3DD2695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B00-FD72-421F-8FA7-B9841D71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1F2-235A-4B5F-BC05-06F158F1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59B7-6981-4815-A618-DD6581D4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0CCA-AE90-4676-93F3-90246F5B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0712-B848-44ED-A730-E99030F5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19FE-1591-44D1-A966-14DF1D78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B493-61DA-4E44-945F-2A8DCF40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8328-A640-4BB8-9C15-39919299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9C14-623A-41AB-86F3-76BAB6C0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05A-5D5D-4348-9CF3-C257218A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F55E-4F47-429F-967B-C1BA1043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4717-52DA-4CFD-996F-D2971F22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CEC3-AEA6-43F3-8EFA-7573EFFD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DADF-D940-4B63-A714-1B437BBB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8A76-CE62-4219-BC48-FA603E0A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192D-6B25-4939-A2FF-BFAC5FDE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7F4D-8D0B-44EB-8198-9C8497E5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D2500-72F5-442D-8803-03517F5A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4049-915A-433A-8A59-47C01478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4F31-ACF7-4973-B33E-E90A6933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154-483E-4862-9845-5F086F81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7994-F04B-411D-897F-9B7F7240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F4C7-3941-4A9A-A3C6-2FCC9FA9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3FA3-59B8-470E-8392-044F8D59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183A-1C43-4D42-9689-9A70EB74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75F5-01B7-4C75-B906-811666DE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8846-0AB1-41EC-88EA-A7C35D7F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4CCE-2A55-47EA-936C-78DBCB83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ABF-1F7E-4221-85BE-B6794D47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863-1AB9-4DAD-B52E-16928207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EBB-9415-459C-8F20-8CB4E102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B63-A6D6-44A6-939C-70A392BC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FB7-AAA2-423B-A955-FBE1A1E9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6FA-E45D-49C8-B00F-2FDAB51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5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6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400560" y="61009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82956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81E56204-2541-4EB9-ACA3-1FBBBC810C4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49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5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1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B7363F64-9F47-4F7B-A179-0D3D3BC384D3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5050"/>
              </a:buClr>
              <a:buSzPct val="90000"/>
              <a:buFont typeface="Monotype Sorts" charset="2"/>
              <a:buChar char="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ff505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8F28B6E2-6928-4C0B-93BE-9F55A6A926FF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0ns20@yahoo.com" TargetMode="External"/><Relationship Id="rId2" Type="http://schemas.openxmlformats.org/officeDocument/2006/relationships/hyperlink" Target="mailto:Mdamavandi@Srttu.Edu.ir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l_fi" descr="http://ketabak.org/tarvij/sites/default/files/imagecache/nc_image/tarvij/article/201112/making-list-0808-lg-504185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itle 1"/>
          <p:cNvSpPr/>
          <p:nvPr/>
        </p:nvSpPr>
        <p:spPr>
          <a:xfrm rot="20127600">
            <a:off x="1520640" y="2415960"/>
            <a:ext cx="228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  <a:cs typeface="B Mitra"/>
              </a:rPr>
              <a:t>به نام خدا</a:t>
            </a: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 rot="19945200">
            <a:off x="2325600" y="2568600"/>
            <a:ext cx="4971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    کارگاه روش شناسی تحقی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دانشگاه فرهنگی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همایش پوی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93/11/11</a:t>
            </a: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5000760" y="62064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ویژ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1115640" y="138060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ل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ب انجام پژوهشهای بسیار و پیشبردعلم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پدیده ها باروشی ساده و مستقیم تبیین میشوند. نظریه های ساده تر اولویت دار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جامع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در دوره های زمانی مختلف ، مناطق جغرافیایی متفاوت ، بافت های اجتماع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و فرهنگی گوناگون توان تبیین دار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واضح وصریح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فاهیم آن می تواند به صورت عملی تعریف شود ، قابل اندازه گیری است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اریف ناقص و مبهم در آن نی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هماهنگ (درونی و بیرون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 سازکاری با دانش پیشین و واقعیت های مشاهده شده (بیرونی)و عدم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ناقض بین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بخش های مختلف آن ( هماهنگی درون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2123640" y="78588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 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کارکر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1071360" y="142884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انایی توصیف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یین عوامل و متغیر ها درونی پدیده یا رویداد و نوع و نحوه ارتباط آ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قدرت تبیی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ضیح نحوه و سازوکار(مکانیسم) عملکرد و تعامل و تاثیر و تاثر پدید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مکان پیش بین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یجاد امکان پیش بینی رخدادها و عملک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1071360" y="1714320"/>
            <a:ext cx="7500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د نظریه ( تئوری ) شناخته شده را نام ببرید و فراز های مهم آن را توضیح دهی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220000" y="2568240"/>
            <a:ext cx="242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نیوتو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فیزیک)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2051640" y="4005000"/>
            <a:ext cx="287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رفتارگرایی</a:t>
            </a:r>
            <a:r>
              <a:rPr b="1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3060000" y="3501000"/>
            <a:ext cx="2654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فروید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4298760" y="2997000"/>
            <a:ext cx="243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داروی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زیست 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224000" y="4437000"/>
            <a:ext cx="7500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آیا شما هم نظریه ای شخصی دارید؟ </a:t>
            </a:r>
            <a:r>
              <a:rPr b="1" lang="en-US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(نظریه شما چه چیز را توصیف و پیش بینی میکند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170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فرضیه و نحوه تدوین آن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س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071360" y="187452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دس ، پیشنهاد یا پیش بینی ( خردمندانه ای ) در باره چگونگی رابطه چند متغیر یا پاسخ یا راه حل معقولانه ای برای مساله پژوهش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(ادعایی مبنی بر وجود رابطه ، تاثیر یا تفاوت دو یا چند متغی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333333"/>
                </a:solidFill>
                <a:latin typeface="Times New Roman"/>
                <a:cs typeface="B Mitra"/>
              </a:rPr>
              <a:t>طرح فرضیه راهکاری است برای هدایت روند پژوهش ( فرضیه ابزار تئوری است ) و چارچوبی را برای تنظیم و ارایه گزارش تحقیق فراهم می آو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56844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c00000"/>
                </a:solidFill>
                <a:latin typeface="Times New Roman"/>
                <a:cs typeface="B Mitra"/>
              </a:rPr>
              <a:t>فرضیه ابطال یا اثبات نمی شوند بلکه تنها در حوزه محدودی به طور موقت         تایید یا رد می گردد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2857320" y="78588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و سوال پژوهش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1071360" y="185724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مبنایی منطقی دار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لازم است که فرضیه با ارایه مبانی نظری یا داده ها و شواهد تجربی تبیین شود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برای طرح آن دلایل روشن و قابل ارایه ای وجود دارد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نظری ؛ از متن نظریه های مربوط به موضوع برآمده و با آنها سازگار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تجربی ؛ از بطن مشاهده های عینی یا پزوهش های پیشین برآمد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انچه مبانی منطقی لازم برای طرح فرضیه جود نداشته باشد به طرح                 سوال پژوهشی بسنده می شود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le 1"/>
          <p:cNvSpPr/>
          <p:nvPr/>
        </p:nvSpPr>
        <p:spPr>
          <a:xfrm>
            <a:off x="3857760" y="714240"/>
            <a:ext cx="45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</a:t>
            </a:r>
            <a:r>
              <a:rPr b="1" lang="en-US" sz="4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1071360" y="2071800"/>
            <a:ext cx="75006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همواره به صورت جمله خبری بیان می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( اندازه گیری ، مشاهده ) متغیر ها و روابط آنها ممکن باشد 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، تاثیر یا تفاوت متغیر ( دو یا چند متغیر ) با هم یا برهم اشار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صورت عبارتی رسا و روشن که نیاز به تفسیر و ترجمه ندارد ،  نگاشته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دقیق ،روشن و تا حد امکان  ساده( بدون آرایه های نگارشی) ومختصر نوشته شو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d4d73"/>
                </a:solidFill>
                <a:latin typeface="Times New Roman"/>
              </a:rPr>
              <a:t>(امور بدیهی و مسایلی که محل منازعه و بحث نیستند را به عنوان فرضیه ارایه نکنیم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1"/>
          <p:cNvSpPr/>
          <p:nvPr/>
        </p:nvSpPr>
        <p:spPr>
          <a:xfrm>
            <a:off x="5357880" y="78588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899640" y="1556640"/>
            <a:ext cx="76010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کنید کدامیک از عبارت های زیر فرضیه مناسبی است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تغییر برنامه کاروزی دانشجو معلمان اقدام مناسبی است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هارت ورفتار های اجتماعی دختران و پسران متفاوت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ومی بودن یا غیر بومی بودن معلمان با عملکرد حرفه ای آنان ارتباطی ن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ره وری آموزشی با پیچیدگی عوامل وتاثیر و تاثرات آ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فزایش برنامه های تفریحی سبب بهبود یاد گیری می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داد و حجم درس های تربیتی با میزان کارایی معلما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شما چندفرضیه ارایه کن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2709000"/>
            <a:ext cx="66434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طالعه پیشینه موضوع و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یادداشت برداری 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چهار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1857240" y="785880"/>
            <a:ext cx="628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ضرو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تحدید موض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جتناب از دوباره کاری و معطوف شدن به مسایل ن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رتقا روش شناختی ، بهره گیری از روش های کار آمد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یابی به بینشی در باره موضوع و حدود آن و ارزیابی فرضیه و سوال های پژوه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640" y="2800800"/>
            <a:ext cx="66434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ساله و موضوع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2786040" y="785880"/>
            <a:ext cx="5357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هدف</a:t>
            </a:r>
            <a:r>
              <a:rPr b="1" lang="en-US" sz="36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مبانی نظر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عرفی و توضیح نظریه ها ، رویکردها ، دیدگاهها معتبر در حوزه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بازنمایی مفاهی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پرداخت مفاهیم و واژگان کلیدی و کلیه نکات مربوط به آن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تحقیقات انجام ش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وارسی نتایج به دست از بررسی موضوع در پژوهش های انجام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ازبینی روش ها ، جامعه آماری ، نمونه و دیگر فراز های روش شناخت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1500120" y="178596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باید یادداشت کنیم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 یادداشت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ر یادداشت کردن نظم معینی را دنبال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تا چه اندازه منظم و مرتب ا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اشت های شما قابل ارایه به دیگران ه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به کارتان آمده یا میا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کردن به یادگیری ( یادسپاری و یاد آوری ) شما کمک می کن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چند پرس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2428920" y="785880"/>
            <a:ext cx="38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چرا باید یادداشت کنیم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ان مسال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928880" y="2214720"/>
            <a:ext cx="564336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بسیاری را از دست می ده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ما سازمان و طبقه بندی مناسبی نمی یاب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آموخته ها ، اطلاعات و داده ها دشوار اس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ون مرجع ، منبع ، تاریخ اطلاعات بی هویت ا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اتفاقی کسب میشوند و تصادفی در ذهن می مان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گه یادداشت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1643040" y="2214720"/>
            <a:ext cx="63576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فیش یا برگه های یادداشت ، برگه هایی اند با شکل و اندازه واحد برای ثبت اطلاعات دریافتی ، چکیده مطالعات و .... با نظم و اصول تعریف شد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ی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643040" y="2214720"/>
            <a:ext cx="63576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کیفیت و جنس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ا قابلیت نگهداری و یا انتقال و جابجای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اندازه و ابعاد 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سته به موضوع و کاربرده های آن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نام نویسنده ، سال انتشار ، ، مترجم ، ناشر 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تاریخ یادداشت برداری ، نام یادداشت کنند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</a:t>
            </a:r>
            <a:r>
              <a:rPr b="1" lang="fa-IR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1000080" y="2000160"/>
            <a:ext cx="73576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 منبع ؛  نام نویسنده ، سال انتشار ، ، مترجم ، ناشر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اصلی ، موضوع فرع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اریخ یادداشت برداری ، نام یادداشت کننده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ع و نحوه یادداشت برداری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5072040" y="714240"/>
            <a:ext cx="350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برگه یادداش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1643040" y="2214720"/>
            <a:ext cx="63576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عدد یا ترکیبی از عدد و حروف برای تعیی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ره ردی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یا نوع مطل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1"/>
          <p:cNvSpPr/>
          <p:nvPr/>
        </p:nvSpPr>
        <p:spPr>
          <a:xfrm>
            <a:off x="350028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حوه یادداشت بردار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1643040" y="2214720"/>
            <a:ext cx="63576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قل قول مستقیم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علمی ، داده ها و ...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لخیص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مفصل و طولانی ، داستان ها ، مطالب فلسفی و 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ضمون نویس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مطالب پیچیده ، مفصل یا غیر قابل نقل و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اشیه نویسی (مطالب شخصی ، نظرات شخصی و ......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یه های شخص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1643040" y="2214720"/>
            <a:ext cx="6357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رنگ ثابت برای منظور خا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ابعاد مختلف برای موضو ع ها مختل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شتن یک سوال برای هر یک فیش ( که مطلب فیش پاسخ آن باشد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نویسی و کد گذاری هر برگه بر اساس طبقه بندی شخص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le 1"/>
          <p:cNvSpPr/>
          <p:nvPr/>
        </p:nvSpPr>
        <p:spPr>
          <a:xfrm>
            <a:off x="300024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مایه ساز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3214800" y="2214720"/>
            <a:ext cx="4428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بندی مطالب و فیش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شناسه برای هر طبق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هیه فهرست برگه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3643200" y="500040"/>
            <a:ext cx="5143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ساله تحقیق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9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قق فردی است که دچار مساله شده است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214280" y="1928880"/>
            <a:ext cx="72864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هر پژوهشی با مساله آغاز می شود ، احساس وجود یک مشکل یا درک یک مساله نخستین مرحله اقدامی پژوهشی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، ماهیت و کیفیت مساله تعیین کننده اهمیت و کیفیت مساله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ش از هر چیز باید به شناخت و تبیین مساله ، ابعاد آن ، بیان روشن و واضح و تبیین ضرورت آهمیت آن پرداخ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2325960" y="1772640"/>
            <a:ext cx="49716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درس دانشگاه تربیت دبیر شهید رجای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_PDMS_Saleem_QuranFont"/>
              </a:rPr>
              <a:t>	</a:t>
            </a:r>
            <a:r>
              <a:rPr b="1" lang="en-US" sz="2800" spc="-1" strike="noStrike" u="sng">
                <a:solidFill>
                  <a:srgbClr val="1a3366"/>
                </a:solidFill>
                <a:uFillTx/>
                <a:latin typeface="Times New Roman"/>
                <a:hlinkClick r:id="rId1"/>
              </a:rPr>
              <a:t>0ns20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  <a:hlinkClick r:id="rId2"/>
              </a:rPr>
              <a:t>Mdamavandi@Srttu.Edu.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tle 1"/>
          <p:cNvSpPr/>
          <p:nvPr/>
        </p:nvSpPr>
        <p:spPr>
          <a:xfrm>
            <a:off x="4071960" y="785880"/>
            <a:ext cx="45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نشا مساله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143000" y="1714320"/>
            <a:ext cx="72864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عینی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جربه های واقعی از زندگی در محیط ،  مواجهها با پدیده ها ، رخداد ها ، روندها پیوسته ما را با مسایلی روبرو می کنند که ابهام زا بوده و نیاز به پاسخ دارن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ذهن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منابع ، آثار و پژوهش های دیگران الهام بخش بوده و منشا شکل گیری مساله است . به صورت تمایل به تکرار یک پژوهش در جامعه ای دیگر و ...... بروز ک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طابق نظریه ها با واقعیت ، نقصان های درونی نظریه ها ، تعارض آنها با نظریه های دیگر موجد مساله ا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فکر و تخیل خلا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یده پردازی ، تمایل به پیشرفت ، عبور از مرزهای موجود ، کشف حوزه های نو ، خلق چیزهای تازه می تواند منشا بروز مساله های جدید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عی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857160" y="1714320"/>
            <a:ext cx="7714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بیانی است کوتاه،رسا و کاملی  از مساله تحقیق به نحوی که امکان بررسی و پژوهیدن آنرا عملی جلوه می دهد .  ضوابطی برای یک موضوع خوب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رد علاقه باشد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غدغه و مشغولیت ذهنی پژوهشگر با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یع و نو باشد .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کراری نباشد ، چیزی به ما ( به دانش یا توانایی ما ) بیافزا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عملی و ممکن باشد 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منابع اطلاعاتی ، مالی و امکاناتی آن میسر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داشته باشد.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تواند به نیازی واقعی پاسخ گوید یا به دانشی نو بیانجام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857160" y="1714320"/>
            <a:ext cx="778644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وضوح و روشنی :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شن و بدون ابهام بوده و نیاز به توضیح ن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رابطه چند متغیر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دو یا چند </a:t>
            </a:r>
            <a:r>
              <a:rPr b="1" lang="fa-IR" sz="1800" spc="-1" strike="noStrike">
                <a:solidFill>
                  <a:srgbClr val="ff0000"/>
                </a:solidFill>
                <a:latin typeface="Times New Roman"/>
                <a:cs typeface="B Mitra"/>
              </a:rPr>
              <a:t>متغیر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شاره 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دودیت            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دامنه محدودی داشته باشد ، به محدوده ، زمان و مسایل مشخصی معطوف باش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le 1"/>
          <p:cNvSpPr/>
          <p:nvPr/>
        </p:nvSpPr>
        <p:spPr>
          <a:xfrm>
            <a:off x="1571760" y="785880"/>
            <a:ext cx="692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  </a:t>
            </a:r>
            <a:r>
              <a:rPr b="1" lang="fa-IR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موضوع های مناسب و نا مناسب را تعیین کنی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1571760" y="1785960"/>
            <a:ext cx="707184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وامل موفقیت دانشجویان و نخبگان علمی و تحصیل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روند تغییرات در برنامه های آموزش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لل بی انگیزه گی دانشجوی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رابطه ویژگی های مدیران و رضایت شغلی کارکن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آموزش های ضمن خدم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ارزشیابی توصیفی بر عملکرد  شاگردان کلاس س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24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روری بر نقش نظریه و فرضیه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در پژوهش علمی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د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1785960" y="185724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‌ای از سازه‌ها ( مفاهیم ) تعاریف و گزاره‌های به هم مرتبط است که از طریق مشخص ساختن روابط بین متغیرها، با هدف تبیین و پیش بینی پدیده‌ها دید نظام یافته‌ای از پدیده‌ها ارائه می‌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 ای از تعریف ها و توضیحات در باره روابط تعدادی از متغیرها ، برای توصیف و توضیح وتبیین منظم پدیده ها و رویداد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دانش استدلالی انتزاعی است که ما از آن برای تبیین پدیده ها ودرک آنها استفاده می کنیم ( ترین،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07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  <Words>1211</Words>
  <Paragraphs>262</Paragraphs>
  <Company>Niayesh Lab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20:04:43Z</dcterms:created>
  <dc:creator>Majid</dc:creator>
  <dc:description/>
  <dc:language>en-US</dc:language>
  <cp:lastModifiedBy>RAYAN</cp:lastModifiedBy>
  <dcterms:modified xsi:type="dcterms:W3CDTF">2015-01-20T20:07:07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