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59F-2B52-440B-B731-A70E30BB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D5D-35DC-4A89-887E-626E363C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5C21B-5968-4702-BD71-67360BFD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D76293-4189-477E-AA13-9D28976F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4B0F0-3735-4F51-8C7C-D8896ECE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2C771-DB7A-49B8-9193-6DF0761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248B7-29A7-4171-A6E8-8F20F3B9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0E8CE9-7B54-4B5B-8A2D-09AF8A6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B66DCC-C290-4FFB-8BEF-7670F37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8BBFB-62D3-4AC9-9210-9BB89C77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96E0AF-49B5-47A0-9BF5-CC3FA82F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609-C83B-4B8B-95F1-CAABD10C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02A-BA41-45DA-986A-F0CFA54A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661BF-EA6D-4A1B-A259-2CDA335D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D93E6-C758-4689-AD4E-60534442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629EE-529E-43AF-8B4F-01DE6B3A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1769E-37D3-4D95-B432-3487D614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CA2D4-57BF-42D9-A29F-1B16DE4C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1EF5E-8581-4F20-B7D5-AF567E2C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5D547-1A3A-4B70-AEA8-AA1672C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2AF-E315-4119-B32D-605BFFE3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10C00-DEA9-4EA6-AF7A-018C2DF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CFE8C-6E0F-438D-9014-D9D5193A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EEB62-40B5-4633-A4D3-D204A6B0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10671-934B-4F83-B57A-A60E27D1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5342F-6F91-4888-BC56-592DFE95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077F-E04D-4D60-9764-06A10534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43C4-F9A1-4173-90BF-5E1F65F3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7CF1-A299-433E-AE11-9DEF697E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1477-E638-45B0-BA54-7197AEEC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0DA5-9327-48C0-9769-029735F4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2E6-38F1-4E6C-A46C-52AF7749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B091-BFCA-45F7-9B64-D228F075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DAF3-97DB-4394-B0B1-57C53DA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35C0-8222-43B6-8AA1-8D2BA59B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5BBD-C258-4BF2-9DC5-77D23909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35B8-0A95-48A4-B3EE-95F8AEBB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53B0-4BAF-4BCD-AD65-96553EBF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02C7A-FEB9-4481-A9DF-F4B06FEC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55ED4-9C9D-4CDC-8894-B27E55E6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8BD69-4CB1-4A58-8B97-BD074869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62973-EE57-46E4-A462-64090634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879-B869-4DE8-84F3-CA49FF39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B8312-3184-493D-B25B-B30203B8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5DF1C-7457-43B5-BCBB-6B1E64D3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DB87B-91CB-45B6-BB9F-402AC83C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CF3D0-853C-4BFB-825E-D8D0E32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1AA9D-A808-4EBD-B623-5B5C692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DA496-2575-413F-AFC6-E92F310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D7B63-7053-4F33-BFB4-CF725F6C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F9085-0D1B-4F01-BE8A-0C62F261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E233D-F2DD-4907-B5C1-A06856D5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AF5FF-A040-4955-806A-62707582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9E8-762D-4D17-BFAA-64B0CC37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A271D-90B9-4DE0-A1B1-6BE177BB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125C-584A-40FA-9E93-E48FF7B6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EA0C1-F8E4-4C8A-A72E-7C580E84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04A0D-1584-4F14-A510-2C19DEFB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9D34-F8D1-49BB-9691-7AB34869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48BB-568A-416D-9419-987EF28F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12B5-7395-41E2-A67C-0B7574D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2471E-54FF-44DB-A5B1-62C7B11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9C906-188D-4112-951B-E1574B9A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4528-2C33-4156-A5DA-81749602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B6D-D3B2-4FE9-B9C4-5F61F15B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F356-F342-4FE4-8D9E-DFC8A70E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41206-71C4-46C6-9938-74112CB5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771A4-833A-440C-9049-CB16744B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E152-CBD9-4234-8A64-934E0A76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3A7F5-FC22-4001-9584-8022A5F9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2372F-ED10-49B0-9AA4-D807B625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8AA1B-1669-42EA-9055-CE462B4D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63E92-23CB-4671-9AFB-E51063D5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363B7-3DBB-4F1E-9709-788E682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B2537-56DC-4D5A-A76F-E680974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DDA-7C2F-4C95-AF51-F09D6579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28B28-CA20-435E-B25D-7EB8A60F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C467D-5C19-4706-A69A-91FE9D0C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0279A-AF3F-4E97-B555-F5A2C836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31095-AECF-4938-8EF0-FD8DDFDF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140AF-6D5D-44E8-8D46-BB19ACA5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292D8-CB97-42F9-AF0E-10E74589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0A178-FACF-4955-B6C6-8A939411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619F-FEA0-483D-AE45-DE8D87B8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BDDE-3E37-44A7-BE81-18B954F4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4AC4-4C97-4274-B2CC-078C1ED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D04-166F-4F5C-A7D8-E60EC39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06741-CF80-49C7-A3EA-AC063F6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98A5-5F5B-4759-A228-4CDB59D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A3BCF-36A4-443E-8196-65019E43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5CCFF-3211-4352-88C0-CD6E7EE5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9C867-B54B-47AA-AF63-9009B575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D7328-0855-43D4-B610-164EA033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28B9F5-680E-4F2C-AB7D-17FC3709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A791A7-D9A0-4999-A0C8-7D3C433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53C40-08A3-4A61-9DEF-7AEEA7C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69E6A6-8300-430E-99B3-C397B803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0F0-2234-4AD4-BECA-8687780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3EFA08-6E78-40AE-822F-33542599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1FE612-BA83-4657-852C-D4608C59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B66ECF-41FC-4B1F-B637-D9DDFE8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7F94E8-7A33-4BE3-9D2C-FA1C63C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D783E-1C75-4DF0-BD86-DE6AA6AA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70612C-9804-4A7B-B8F3-B85F09B3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40E4D8-C402-4B64-8D9C-6CC36F9F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DBC4EC-5E90-44CA-8478-F283673F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432068-B31B-451C-95D7-456A6FE6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496DF-684A-45D6-AAD4-346ACA79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4424-E7BD-4AFB-BBD1-7C784C55F4E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4B4C-F06A-4324-A072-F07B9F201E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920C-8692-45FB-8E05-2DBFEAF296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1C86-6BEB-464A-8116-C8905D6FC9F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342B-96E2-48DE-9D31-CC3EEAC0151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3B09-F149-4817-BE66-CA9A4AFE0D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A172-5C18-4617-A55C-CBF4FBB3DA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5C7C-05BF-448B-A678-8E4CE5CCCF8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EF5C-9D80-4C6B-A2FA-7F6F62BE1AD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pic>
        <p:nvPicPr>
          <p:cNvPr id="395" name="Picture 4" descr="A:\MVC-012S.JPG"/>
          <p:cNvPicPr/>
          <p:nvPr/>
        </p:nvPicPr>
        <p:blipFill>
          <a:blip r:embed="rId1"/>
          <a:stretch/>
        </p:blipFill>
        <p:spPr>
          <a:xfrm>
            <a:off x="500040" y="500040"/>
            <a:ext cx="7985160" cy="59896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A:\MVC-017S.JPG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A:\MVC-019S.JPG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A:\MVC-020S.JPG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A:\MVC-021S.JPG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A:\MVC-013S.JPG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A:\MVC-008S.JPG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A:\MVC-018S.JPG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A:\MVC-011S.JPG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A:\MVC-009S.JPG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0948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  <p:pic>
        <p:nvPicPr>
          <p:cNvPr id="412" name="Picture 5" descr="A:\MVC-010S.JPG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A:\MVC-014S.JPG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A:\MVC-015S.JPG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417" name="01- Theme From Antarctica 1983.mp3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A:\MVC-016S.JPG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8:53:07Z</dcterms:created>
  <dc:creator>hOSSIN</dc:creator>
  <dc:description/>
  <dc:language>en-US</dc:language>
  <cp:lastModifiedBy>mamali</cp:lastModifiedBy>
  <dcterms:modified xsi:type="dcterms:W3CDTF">2015-08-20T06:01:31Z</dcterms:modified>
  <cp:revision>11</cp:revision>
  <dc:subject/>
  <dc:title>آرشيو عكس مدرسه ابتدايي</dc:title>
</cp:coreProperties>
</file>