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1DC-68F5-4B5B-BF20-0AF0F3B1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DC5-8728-4BB1-B31A-203ED94D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47AD64-E096-44BD-BEB6-C886631B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A6661C-B4A1-459C-8C6D-46C00494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F8860-49F0-4DA4-B4DF-04F9B4A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395ACA-B181-4E31-B415-4EE9D45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7C98E2-438B-44DB-AB34-5CEDE0A0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F1B654-96FA-41F4-8017-31D98888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2D434F-71F2-4983-B979-5AA6249F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3634E1-4D33-4B6B-BE7C-9AD925BE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1BED32-778A-47D8-8E1B-1D90DFA4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D564-DADD-4813-911A-1349D4C5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ED3-A8D7-4A72-8D5A-4F86AA0F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4A0E-8E60-4FF6-A76D-4FA97B9A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1110D-A23E-4545-B5A3-296424D5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76D12-EE58-4B56-9FC5-95096B5E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84DC-6830-4CBE-BE9B-0F3EB4A4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5BF21-C213-41C1-8D9C-9517675D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07AF4-8112-4F99-AC5A-9BCCEFED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66DDC-B5D5-4AEF-952E-1326F619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A8E1-68C9-429D-BCCC-8FC186EF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02317-EFB5-4174-80B1-A49240C4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0A157-9734-4B86-A64B-2DA49120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BCF19-65B1-4913-BD01-C8C68C25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0CBFA-F04E-412C-B7E9-9B665514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F4614-823E-4F91-8574-17A116FC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39EFA-02B5-4723-B702-E5104DDB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92FA2-9C51-44FC-A93F-9F755E70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14E5-7474-4F71-81C8-CE259EFF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2252A-ABE5-4812-8FE7-7C9A04D7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ABD8-EB30-4F58-991F-777DA445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06F-CCF9-47AC-9EC7-73BEF2A5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C0F2-D50C-4F48-91EC-E823615F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89C2-35CC-4F58-9214-9AC3255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C35E6-597B-4D6C-891D-DB30D8C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D061-3DCA-4AD0-A67C-6916B650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B0DBA-7EA0-4057-AFEF-A8DB0F1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C7EA-6565-47BF-A021-5155A99C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5FE7-F7F0-4630-AD94-A63CA83C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86C75-59E8-4119-877E-859C7FF2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FFE07-CCD0-4DBE-B472-40467471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57B2DA-600A-41B5-BD43-0A90B0AF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699-A089-4DA7-A9B3-DB8FC29B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CFD72-5E3D-4776-8593-2F3C0306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829AA5-705A-4178-BC8B-3F3D52A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43276-15C8-4B6E-A962-BE2502F9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C5ACB-CA00-4733-98F1-E700933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8D244-569C-4563-A458-07B2EFE1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BDC51-81F9-4E76-AAAB-B08DDD3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86D59-06E7-4A22-9125-DA1E21FD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3C297-8A4A-4EC9-A061-641B7376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8D852-2649-41F2-A0DC-B835DDFF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C450A-0F52-4634-9FBE-1F48D927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37F-4435-4FD4-92E1-04877685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A2FD4-5F8C-4D9F-8E05-268A0B47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FD3A5-430D-464F-A074-161CF70F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975C3-F1E6-4752-8B73-CC1610B4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B59FE-F1A7-4BFE-B613-27B4AB69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8095F-2740-465C-B36D-D03C61AF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EE13-F3AA-4C1E-9FD5-21E81088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29C8D-8373-4380-A0DB-1256A83E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AF810-B48D-43C2-9F48-AE21C51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11218-B65E-4BEA-8851-E4E843F6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39DD-260C-4C92-85F4-BC3B522B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920-58BE-464D-A694-453B02C3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544B9-47A0-4DF0-AA50-82AE2E45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ADA85-E7AA-4628-AD71-1F0AC0BF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2C12-FA26-4769-8103-7C3A4B1D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04E13-C4FE-4D1C-A419-E687970B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0B194-FB0C-40DD-AA60-CA6DCD43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A8530-7372-4995-9E36-8FAD07D4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08B41-A5D1-476A-BE3F-7522A826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A87D7-B537-4B5C-B828-8F48B17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6B4E9-8409-4395-9A74-5B625A83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3129D-90FD-4893-8951-DAD47DA8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E1AD-5B81-4EC8-9DB5-FA1676C4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B12D-AC94-44F2-92D0-78C4C9A9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6422E-7975-4D13-8F00-D959B028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89196-6F3C-4E7B-93D8-8B833E03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EB523-FA75-4861-AC81-7B83A67F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B5AEC-D6F3-4A01-AD07-679ABAB5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E8CC1-0862-45B2-ADB5-245196A5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0E9D-5C33-48DA-B2FD-789FAA79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5C894-AA84-4DB4-B603-C9B4AD6B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9D382-4495-4A32-A6F7-D5CA789B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74713-4705-49FF-ABF8-772B627A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6DC-2977-42D2-8C91-79B549D8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D2D8B-C872-44BE-A426-3090BB52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3B128-BACC-4CFE-9157-324955D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D2934-AAD5-4200-AE39-8E42EB1A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9ECA0-C7F3-4FDB-A3E1-A1023CEC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2697C-62CA-4906-955B-BE4257C5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14677-2E4B-40EB-A0BF-2C750504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2B137E-D1F8-40CD-A63D-0CA49F25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9B695-4A84-4847-A6C8-7AE6657B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C83D39-EB48-491D-A0D8-80710D7F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200718-4E8E-4242-919D-3FBD1CA3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69B-C7EC-4AD4-AE3B-96CD6844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A0550-273C-431F-A8B5-CA9FA5BE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03C07D-BF89-4DF5-8AA2-6AF2CE3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07CC12-0DA9-4CFB-8373-A132B5EB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D4DEF1-52D3-4EEB-BF76-3DED0691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54017E-7C1B-4D1A-95EA-7292EB6F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1C5253-D407-44BA-BA8C-FF587711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81C7C2-74D9-4E7E-8577-E3C0406F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449289-8FF2-4C26-8644-DD070C90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A8D284-BC19-49E2-B806-1FD9E903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9DE346-7B8B-4952-BC4C-9C3EBD6C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D0E0-BEA4-4C98-9136-9EB9D51CBC0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86C2-20A0-4C83-99AE-8FDF590539E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8CA3-07C7-4598-A711-2799B9B02BC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9E46-C802-406A-9271-3AF4E8D6F44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4F5A-D78C-41D1-A442-D22A3D6507E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DD46-B2AE-4337-9234-8CB604954D6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B4E8-3494-44CD-AC11-B23A8A690CB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1EA0-3ECE-4BCA-9FA2-C2A8708D9E1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 algn="r" rtl="1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63CA-E595-4944-BBBC-6F223193A93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pic>
        <p:nvPicPr>
          <p:cNvPr id="395" name="Picture 4" descr="A:\MVC-012S.JPG"/>
          <p:cNvPicPr/>
          <p:nvPr/>
        </p:nvPicPr>
        <p:blipFill>
          <a:blip r:embed="rId1"/>
          <a:stretch/>
        </p:blipFill>
        <p:spPr>
          <a:xfrm>
            <a:off x="500040" y="500040"/>
            <a:ext cx="7985160" cy="59896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A:\MVC-017S.JPG"/>
          <p:cNvPicPr/>
          <p:nvPr/>
        </p:nvPicPr>
        <p:blipFill>
          <a:blip r:embed="rId1"/>
          <a:stretch/>
        </p:blipFill>
        <p:spPr>
          <a:xfrm>
            <a:off x="83808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A:\MVC-019S.JPG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A:\MVC-020S.JPG"/>
          <p:cNvPicPr/>
          <p:nvPr/>
        </p:nvPicPr>
        <p:blipFill>
          <a:blip r:embed="rId1"/>
          <a:stretch/>
        </p:blipFill>
        <p:spPr>
          <a:xfrm>
            <a:off x="99072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A:\MVC-021S.JPG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A:\MVC-013S.JPG"/>
          <p:cNvPicPr/>
          <p:nvPr/>
        </p:nvPicPr>
        <p:blipFill>
          <a:blip r:embed="rId1"/>
          <a:stretch/>
        </p:blipFill>
        <p:spPr>
          <a:xfrm>
            <a:off x="838080" y="7621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A:\MVC-008S.JPG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0292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A:\MVC-018S.JPG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A:\MVC-011S.JPG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A:\MVC-009S.JPG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09480" y="761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  <p:pic>
        <p:nvPicPr>
          <p:cNvPr id="412" name="Picture 5" descr="A:\MVC-010S.JPG"/>
          <p:cNvPicPr/>
          <p:nvPr/>
        </p:nvPicPr>
        <p:blipFill>
          <a:blip r:embed="rId1"/>
          <a:stretch/>
        </p:blipFill>
        <p:spPr>
          <a:xfrm>
            <a:off x="83808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A:\MVC-014S.JPG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A:\MVC-015S.JPG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417" name="01- Theme From Antarctica 1983.mp3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A:\MVC-016S.JPG"/>
          <p:cNvPicPr/>
          <p:nvPr/>
        </p:nvPicPr>
        <p:blipFill>
          <a:blip r:embed="rId1"/>
          <a:stretch/>
        </p:blipFill>
        <p:spPr>
          <a:xfrm>
            <a:off x="914400" y="8380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600" spc="-1" strike="noStrike">
              <a:solidFill>
                <a:srgbClr val="e7eacb"/>
              </a:solidFill>
              <a:latin typeface="Rockwell"/>
              <a:ea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Rockwell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18:53:07Z</dcterms:created>
  <dc:creator>hOSSIN</dc:creator>
  <dc:description/>
  <dc:language>en-US</dc:language>
  <cp:lastModifiedBy>mamali</cp:lastModifiedBy>
  <dcterms:modified xsi:type="dcterms:W3CDTF">2015-08-20T06:01:31Z</dcterms:modified>
  <cp:revision>11</cp:revision>
  <dc:subject/>
  <dc:title>آرشيو عكس مدرسه ابتدايي</dc:title>
</cp:coreProperties>
</file>